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.jpeg" ContentType="image/jpeg"/>
  <Override PartName="/ppt/media/image7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DA6C-2901-4561-9FF0-6DBD5C067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5D43-2E87-4D57-875E-B856B5A67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s C 1-D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46AC-370A-4A78-B03D-B0A421A47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s C 1-D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47CB-BC44-49FA-BF92-D6D3D97F3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E0D5-BCAE-48FA-976D-BAEBAECDF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235B-7A10-4084-AF9C-37DD88F12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B66E-FBA9-4980-B400-AE481AFC7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6096-AA8E-4ACB-8441-61F0BADA8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840D-3153-4E02-9688-6CEBC84FC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0F36-857E-4BA9-925A-F6CC9F859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38B7-509C-44AC-90AE-BA71B52D7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37E2-DD80-4DDF-B3F5-343D766F4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5D0A-EE2B-42C6-AA21-044BE74AB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0FEB-C30D-4841-9CE8-A9CD9A945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7827-2DC3-4DB9-A2B8-E259435E7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DF8B-CA17-4156-924F-F371D213B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33C8-3D30-4CCD-B600-044B894D7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1D3B-358A-4B7C-AD0C-6E5F840C1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2136-E27B-41F9-8E60-3448E738A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EF7F-4E5A-429B-B958-9E0F12416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6C6E-1EE8-4CA8-81F4-BDC9291F2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60AC-7845-49A1-B52B-8D3ACCAF9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C574-831F-453F-A0A6-FF8FAD18F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B4FC-A92F-4F5C-ADDA-D8604E7BC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0DBD-F22A-45F5-93CF-F07995BC1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DF85-BA7D-416B-B1D6-CC3F03B4F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5DC0-FD18-4FAE-AA0B-7DAAC20BA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5D3-6C13-4F59-9F60-B87F5105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11B-AB0D-4E61-B6BE-910516FC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4227-034F-4225-9B09-BDADB92E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ED9-AFB7-45E4-9E66-EA73708A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508-520A-458C-A910-977117A1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24F-8C3F-4C4D-A5C5-31E1DFDC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824-E32B-429E-BDE1-DB94F305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A40-E2A3-4AA9-A95F-79901F0C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A48-D792-4FB0-AFEA-F135FA22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B17-9789-44BF-AB67-2AADEE5B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53EE-9FEC-45CB-8707-10563DE0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3F0-2CD1-42B1-8A96-D791AE62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D218-8B6D-4726-BDB1-1AA87EE12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0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11.wmf"/><Relationship Id="rId10" Type="http://schemas.openxmlformats.org/officeDocument/2006/relationships/package" Target="../embeddings/oleObject5.xlsx"/><Relationship Id="rId11" Type="http://schemas.openxmlformats.org/officeDocument/2006/relationships/image" Target="../media/image12.wmf"/><Relationship Id="rId12" Type="http://schemas.openxmlformats.org/officeDocument/2006/relationships/package" Target="../embeddings/oleObject6.xlsx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447920" y="9144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inema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(describ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ngs mo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2133720"/>
          <a:ext cx="7772400" cy="4227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directio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t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/ direct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cem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32"/>
          <p:cNvSpPr/>
          <p:nvPr/>
        </p:nvSpPr>
        <p:spPr>
          <a:xfrm>
            <a:off x="990720" y="28954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4"/>
          <p:cNvSpPr/>
          <p:nvPr/>
        </p:nvSpPr>
        <p:spPr>
          <a:xfrm>
            <a:off x="1600200" y="33526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r you t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6"/>
          <p:cNvSpPr/>
          <p:nvPr/>
        </p:nvSpPr>
        <p:spPr>
          <a:xfrm>
            <a:off x="4648320" y="3124080"/>
            <a:ext cx="36576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ow far you travel in a given dir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0"/>
          <p:cNvSpPr/>
          <p:nvPr/>
        </p:nvSpPr>
        <p:spPr>
          <a:xfrm>
            <a:off x="1523880" y="4800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you t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2"/>
          <p:cNvSpPr/>
          <p:nvPr/>
        </p:nvSpPr>
        <p:spPr>
          <a:xfrm>
            <a:off x="4648320" y="472428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you travel (in a given dir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4"/>
          <p:cNvSpPr/>
          <p:nvPr/>
        </p:nvSpPr>
        <p:spPr>
          <a:xfrm>
            <a:off x="5029200" y="5867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te of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e proble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motorist drives north at 20 m/s for 20 km and then continues north at 30 m/s for another 20 km. What is his average veloc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e proble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 takes the motorist one minute to change his speed from 20 m/s to 30 m/s. What is his average acceler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4300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Representation of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2120" y="15238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ematics Relationships Through Graph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85800" y="22096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 The slope of a d-t graph at any time tells you the av. velocity of  the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85800" y="29718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The slope of a v-t graph at any time tells you the av.            acceleration of the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85800" y="37339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ea under a v-t graph tells you the displacement of the object during that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85800" y="44956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The area under a a-t graph tells you the change in velocity of the object during tha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397480" cy="851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1295280" y="5335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3"/>
          <p:cNvGraphicFramePr/>
          <p:nvPr/>
        </p:nvGraphicFramePr>
        <p:xfrm>
          <a:off x="762120" y="2133720"/>
          <a:ext cx="2514600" cy="1834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133720"/>
                    <a:ext cx="2514600" cy="18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Line 14"/>
          <p:cNvSpPr/>
          <p:nvPr/>
        </p:nvSpPr>
        <p:spPr>
          <a:xfrm flipV="1">
            <a:off x="1066680" y="2514240"/>
            <a:ext cx="175284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15"/>
          <p:cNvGraphicFramePr/>
          <p:nvPr/>
        </p:nvGraphicFramePr>
        <p:xfrm>
          <a:off x="3429000" y="2133720"/>
          <a:ext cx="2514600" cy="1834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3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29000" y="2133720"/>
                    <a:ext cx="2514600" cy="18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Line 16"/>
          <p:cNvSpPr/>
          <p:nvPr/>
        </p:nvSpPr>
        <p:spPr>
          <a:xfrm>
            <a:off x="3733920" y="29718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17"/>
          <p:cNvGraphicFramePr/>
          <p:nvPr/>
        </p:nvGraphicFramePr>
        <p:xfrm>
          <a:off x="6095880" y="2133720"/>
          <a:ext cx="2514600" cy="18349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6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5880" y="2133720"/>
                    <a:ext cx="2514600" cy="18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8"/>
          <p:cNvSpPr/>
          <p:nvPr/>
        </p:nvSpPr>
        <p:spPr>
          <a:xfrm>
            <a:off x="6400800" y="36576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762120" y="4191120"/>
            <a:ext cx="24382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d-t graph at any point in time …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∆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838080" y="4800600"/>
            <a:ext cx="236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 - 0)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- 0)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838080" y="518148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m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762120" y="556272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constant on this graph so the velocity is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3505320" y="4191120"/>
            <a:ext cx="2286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v-t graph at any point in time…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3505320" y="4648320"/>
            <a:ext cx="2361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- 10)m/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- 0)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3505320" y="502920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m/s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3505320" y="541008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area between the line and the x-axis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3733920" y="2971800"/>
            <a:ext cx="17524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3505320" y="58672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rectangle = b x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3505320" y="609588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5s x 10 m/s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3505320" y="640080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of course dis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3"/>
          <p:cNvSpPr/>
          <p:nvPr/>
        </p:nvSpPr>
        <p:spPr>
          <a:xfrm>
            <a:off x="6172200" y="42670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a-t graph the area  between the line and the x-axis is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6172200" y="48006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rectangle = b x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6"/>
          <p:cNvSpPr/>
          <p:nvPr/>
        </p:nvSpPr>
        <p:spPr>
          <a:xfrm>
            <a:off x="6172200" y="510552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5s x 0 m/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m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6095880" y="54864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ea thus represents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8"/>
          <p:cNvSpPr/>
          <p:nvPr/>
        </p:nvSpPr>
        <p:spPr>
          <a:xfrm>
            <a:off x="6172200" y="5791320"/>
            <a:ext cx="2743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9"/>
          <p:cNvSpPr/>
          <p:nvPr/>
        </p:nvSpPr>
        <p:spPr>
          <a:xfrm>
            <a:off x="6248520" y="617220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n 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295280" y="5335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676840" cy="85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4"/>
          <p:cNvGraphicFramePr/>
          <p:nvPr/>
        </p:nvGraphicFramePr>
        <p:xfrm>
          <a:off x="609480" y="2362320"/>
          <a:ext cx="2590920" cy="189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362320"/>
                    <a:ext cx="259092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609480" y="2362320"/>
          <a:ext cx="2590920" cy="1890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2362320"/>
                    <a:ext cx="259092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7"/>
          <p:cNvGraphicFramePr/>
          <p:nvPr/>
        </p:nvGraphicFramePr>
        <p:xfrm>
          <a:off x="3429000" y="2362320"/>
          <a:ext cx="2590920" cy="18907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29000" y="2362320"/>
                    <a:ext cx="259092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9"/>
          <p:cNvGraphicFramePr/>
          <p:nvPr/>
        </p:nvGraphicFramePr>
        <p:xfrm>
          <a:off x="3429000" y="2362320"/>
          <a:ext cx="2590920" cy="189072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29000" y="2362320"/>
                    <a:ext cx="259092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0"/>
          <p:cNvGraphicFramePr/>
          <p:nvPr/>
        </p:nvGraphicFramePr>
        <p:xfrm>
          <a:off x="6248520" y="2362320"/>
          <a:ext cx="2590560" cy="189072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167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48520" y="2362320"/>
                    <a:ext cx="259056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2"/>
          <p:cNvGraphicFramePr/>
          <p:nvPr/>
        </p:nvGraphicFramePr>
        <p:xfrm>
          <a:off x="6248520" y="2362320"/>
          <a:ext cx="2590560" cy="189216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169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48520" y="2362320"/>
                    <a:ext cx="25905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16"/>
          <p:cNvSpPr/>
          <p:nvPr/>
        </p:nvSpPr>
        <p:spPr>
          <a:xfrm>
            <a:off x="609480" y="4343400"/>
            <a:ext cx="24386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d-t graph at any point in time …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∆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09480" y="4952880"/>
            <a:ext cx="2590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constantly increasing on this graph so the velocity is increas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609480" y="571500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of a tangent line drawn at a point on the curve will tell you the instantaneous velocity at this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9"/>
          <p:cNvSpPr/>
          <p:nvPr/>
        </p:nvSpPr>
        <p:spPr>
          <a:xfrm flipH="1">
            <a:off x="1523160" y="2895480"/>
            <a:ext cx="11430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581280" y="4343400"/>
            <a:ext cx="2286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v-t graph at any point in time…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3581280" y="4800600"/>
            <a:ext cx="236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 - 0)m/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- 0)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3581280" y="5105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/s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3581280" y="54100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area between the line and the x-axis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3505320" y="594360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iangle = 1/2 (b x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3505320" y="61722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1/2 (5s x 20 m/s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3505320" y="640080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of course dis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6248520" y="444960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a-t graph the area  between the line and the x-axis is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6248520" y="498312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rectangle = b x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6248520" y="528804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5s x 4 m/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 m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6172200" y="56689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ea thus represents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1"/>
          <p:cNvSpPr/>
          <p:nvPr/>
        </p:nvSpPr>
        <p:spPr>
          <a:xfrm>
            <a:off x="6324480" y="60199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n 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32"/>
          <p:cNvSpPr/>
          <p:nvPr/>
        </p:nvSpPr>
        <p:spPr>
          <a:xfrm flipH="1">
            <a:off x="3809880" y="2819520"/>
            <a:ext cx="1828800" cy="1143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3"/>
          <p:cNvSpPr/>
          <p:nvPr/>
        </p:nvSpPr>
        <p:spPr>
          <a:xfrm>
            <a:off x="6553080" y="3200400"/>
            <a:ext cx="19051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30492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762120" y="914400"/>
            <a:ext cx="76197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udent is late for the school bus. She runs east down the road at 3 m/s for 30s, then thinks that she has dropped her calculator so stops for 10s to check. She jogs back west at 2 m/s for 10s, stops for 5 s then accelerates uniformly from rest to 4 m/s east over a 10 second perio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the velocity-time graph of the student’s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total distance and displacement of the student during thi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student’s average velocity during thi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4"/>
          <p:cNvGraphicFramePr/>
          <p:nvPr/>
        </p:nvGraphicFramePr>
        <p:xfrm>
          <a:off x="762120" y="1676520"/>
          <a:ext cx="7696080" cy="380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69608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5"/>
          <p:cNvSpPr/>
          <p:nvPr/>
        </p:nvSpPr>
        <p:spPr>
          <a:xfrm>
            <a:off x="914400" y="41148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762120" y="685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ty-Time Graph of the Student’s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533520" y="304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distance traveled by the student i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62120" y="914400"/>
            <a:ext cx="37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762120" y="1447920"/>
            <a:ext cx="601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762120" y="2057400"/>
            <a:ext cx="7391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(3m/s)(30s) + (0m/s)(10s) + (2m/s)(10s)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m/s)(5s) + (1/2(4m/s)(10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762120" y="289548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13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533520" y="3505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displacement by the student i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762120" y="411480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762120" y="4648320"/>
            <a:ext cx="640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762120" y="5257800"/>
            <a:ext cx="7391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(3m/s)(30s) + (0m/s)(10s) + (-2m/s)(10s)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m/s)(5s) + (1/2(4m/s)(10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838080" y="6172200"/>
            <a:ext cx="335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90 m (E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6629400" y="3809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east  -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990720" y="6858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velocity of the student i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295280" y="13716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962520" y="1371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+ 90m East / 65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295280" y="19810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4 m/s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Object 8"/>
          <p:cNvGraphicFramePr/>
          <p:nvPr/>
        </p:nvGraphicFramePr>
        <p:xfrm>
          <a:off x="1295280" y="2743200"/>
          <a:ext cx="6019920" cy="297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6019920" cy="29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9"/>
          <p:cNvSpPr/>
          <p:nvPr/>
        </p:nvSpPr>
        <p:spPr>
          <a:xfrm>
            <a:off x="1905120" y="3886200"/>
            <a:ext cx="22096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4876920" y="4495680"/>
            <a:ext cx="6858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1"/>
          <p:cNvSpPr/>
          <p:nvPr/>
        </p:nvSpPr>
        <p:spPr>
          <a:xfrm flipH="1">
            <a:off x="5942880" y="3657600"/>
            <a:ext cx="762120" cy="83808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259092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+ 9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4800600" y="4572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 2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6019920" y="41148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+ 2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447920" y="4572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Kinematics Equations that Make Sen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19320" y="1676520"/>
            <a:ext cx="21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219320" y="2209680"/>
            <a:ext cx="281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181480" y="2209680"/>
            <a:ext cx="274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   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219320" y="2743200"/>
            <a:ext cx="419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) 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219320" y="3276720"/>
            <a:ext cx="335268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+ 1/2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1219320" y="4191120"/>
            <a:ext cx="281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5181480" y="419112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 =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/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219320" y="4724280"/>
            <a:ext cx="419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1219320" y="5181480"/>
            <a:ext cx="335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5029200" y="5257800"/>
            <a:ext cx="335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…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/2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1219320" y="5791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286000" y="5867280"/>
            <a:ext cx="220968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2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5715000" y="3276720"/>
            <a:ext cx="27432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+ 1/2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4876920" y="3276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5257800" y="167652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/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143000" y="533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838080" y="1523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lots of different ways to describe motion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914400" y="2666880"/>
            <a:ext cx="6781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elapsed phot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Expressions (Equ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219320" y="2286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 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80880" y="83808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 fall describes the motion of an object which 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n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nder the influence of  gravity.  I.e. a ball thrown upwards or dr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80880" y="2286000"/>
            <a:ext cx="8305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nematics equations can be used for solving free fall problems by replacing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expressions with g where g i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8 m/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w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380880" y="16002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object in free fall experiences a constant uniform acceleration of 9.8 m/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downwards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295280" y="2971800"/>
            <a:ext cx="1676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2971800" y="2971800"/>
            <a:ext cx="274320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+ 1/2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5638680" y="2971800"/>
            <a:ext cx="2210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1600200" y="5334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 flipV="1">
            <a:off x="1676520" y="4647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1447920" y="434340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po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3"/>
          <p:cNvSpPr/>
          <p:nvPr/>
        </p:nvSpPr>
        <p:spPr>
          <a:xfrm>
            <a:off x="99072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83808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838080" y="53341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205740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2133720" y="50292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is neg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380880" y="579132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define up as the positive direction, g must be negative because the velocity gets less positive over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0"/>
          <p:cNvSpPr/>
          <p:nvPr/>
        </p:nvSpPr>
        <p:spPr>
          <a:xfrm>
            <a:off x="533412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1"/>
          <p:cNvSpPr/>
          <p:nvPr/>
        </p:nvSpPr>
        <p:spPr>
          <a:xfrm>
            <a:off x="5181480" y="388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5181480" y="52578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23"/>
          <p:cNvSpPr/>
          <p:nvPr/>
        </p:nvSpPr>
        <p:spPr>
          <a:xfrm>
            <a:off x="5943600" y="52578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5943600" y="4191120"/>
            <a:ext cx="190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neg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6"/>
          <p:cNvSpPr/>
          <p:nvPr/>
        </p:nvSpPr>
        <p:spPr>
          <a:xfrm flipV="1">
            <a:off x="601992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6629400" y="49528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is po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4724280" y="579132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define up as the negative direction, g must be positive because the velocity gets less negative over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0"/>
          <p:cNvSpPr/>
          <p:nvPr/>
        </p:nvSpPr>
        <p:spPr>
          <a:xfrm>
            <a:off x="380880" y="3352680"/>
            <a:ext cx="83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r resistance limits the time of free fall.  Eventually a falling object will reach a constant velocity downwards known as its terminal velo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Freely Falling Bo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014720" cy="37623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517680" y="573120"/>
            <a:ext cx="83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mple 1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lling 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one is dropped from the top of a tall building.  After 3.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free fall, what is the displace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t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Freely Falling Bo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09480" y="4648320"/>
          <a:ext cx="7696440" cy="1877760"/>
        </p:xfrm>
        <a:graphic>
          <a:graphicData uri="http://schemas.openxmlformats.org/drawingml/2006/table">
            <a:tbl>
              <a:tblPr/>
              <a:tblGrid>
                <a:gridCol w="1219320"/>
                <a:gridCol w="2514600"/>
                <a:gridCol w="1143000"/>
                <a:gridCol w="1371600"/>
                <a:gridCol w="1447920"/>
              </a:tblGrid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4" name="Picture 23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4014720" cy="37623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24"/>
          <p:cNvSpPr/>
          <p:nvPr/>
        </p:nvSpPr>
        <p:spPr>
          <a:xfrm>
            <a:off x="1050840" y="32418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990720" y="5715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7"/>
          <p:cNvSpPr/>
          <p:nvPr/>
        </p:nvSpPr>
        <p:spPr>
          <a:xfrm>
            <a:off x="22860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9.8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8"/>
          <p:cNvSpPr/>
          <p:nvPr/>
        </p:nvSpPr>
        <p:spPr>
          <a:xfrm>
            <a:off x="5562720" y="5715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9"/>
          <p:cNvSpPr/>
          <p:nvPr/>
        </p:nvSpPr>
        <p:spPr>
          <a:xfrm>
            <a:off x="6934320" y="5715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00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Freely Falling Bo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762120" y="914400"/>
          <a:ext cx="7696080" cy="1878120"/>
        </p:xfrm>
        <a:graphic>
          <a:graphicData uri="http://schemas.openxmlformats.org/drawingml/2006/table">
            <a:tbl>
              <a:tblPr/>
              <a:tblGrid>
                <a:gridCol w="1218960"/>
                <a:gridCol w="2514600"/>
                <a:gridCol w="1143000"/>
                <a:gridCol w="1371600"/>
                <a:gridCol w="14479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.80 m/s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m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0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Text Box 24"/>
          <p:cNvSpPr/>
          <p:nvPr/>
        </p:nvSpPr>
        <p:spPr>
          <a:xfrm>
            <a:off x="838080" y="3429000"/>
            <a:ext cx="35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+ ½ 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5"/>
          <p:cNvSpPr/>
          <p:nvPr/>
        </p:nvSpPr>
        <p:spPr>
          <a:xfrm>
            <a:off x="1295280" y="40384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0 m/s)(3.00s) + ½ (-9.8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3.00s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6"/>
          <p:cNvSpPr/>
          <p:nvPr/>
        </p:nvSpPr>
        <p:spPr>
          <a:xfrm>
            <a:off x="1295280" y="47242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- 44.1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Freely Falling Bo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520920" y="573120"/>
            <a:ext cx="487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mple 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igh Does it 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feree tosses the coin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n initial speed of 5.00m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absence if air resista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igh does the coin go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point of rele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351468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Freely Falling Bo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533520" y="4724280"/>
          <a:ext cx="7467480" cy="1878120"/>
        </p:xfrm>
        <a:graphic>
          <a:graphicData uri="http://schemas.openxmlformats.org/drawingml/2006/table">
            <a:tbl>
              <a:tblPr/>
              <a:tblGrid>
                <a:gridCol w="990360"/>
                <a:gridCol w="2210040"/>
                <a:gridCol w="1523880"/>
                <a:gridCol w="1828800"/>
                <a:gridCol w="9144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0" name="Picture 23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2970360" cy="44197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4"/>
          <p:cNvSpPr/>
          <p:nvPr/>
        </p:nvSpPr>
        <p:spPr>
          <a:xfrm>
            <a:off x="838080" y="5715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1676520" y="5715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9.80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3962520" y="5715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5257800" y="5715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5.00 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Freely Falling Bo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90720" y="685800"/>
          <a:ext cx="7086600" cy="1878120"/>
        </p:xfrm>
        <a:graphic>
          <a:graphicData uri="http://schemas.openxmlformats.org/drawingml/2006/table">
            <a:tbl>
              <a:tblPr/>
              <a:tblGrid>
                <a:gridCol w="990360"/>
                <a:gridCol w="2210040"/>
                <a:gridCol w="1523880"/>
                <a:gridCol w="1447920"/>
                <a:gridCol w="9144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.80 m/s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m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.00 m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AutoShape 24"/>
          <p:cNvSpPr/>
          <p:nvPr/>
        </p:nvSpPr>
        <p:spPr>
          <a:xfrm>
            <a:off x="4267080" y="34290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Object 25"/>
          <p:cNvGraphicFramePr/>
          <p:nvPr/>
        </p:nvGraphicFramePr>
        <p:xfrm>
          <a:off x="5257800" y="2895480"/>
          <a:ext cx="310500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895480"/>
                    <a:ext cx="310500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26"/>
          <p:cNvGraphicFramePr/>
          <p:nvPr/>
        </p:nvGraphicFramePr>
        <p:xfrm>
          <a:off x="304920" y="4267080"/>
          <a:ext cx="4935240" cy="15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267080"/>
                    <a:ext cx="493524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Text Box 30"/>
          <p:cNvSpPr/>
          <p:nvPr/>
        </p:nvSpPr>
        <p:spPr>
          <a:xfrm>
            <a:off x="228600" y="3200400"/>
            <a:ext cx="3962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2 g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1"/>
          <p:cNvSpPr/>
          <p:nvPr/>
        </p:nvSpPr>
        <p:spPr>
          <a:xfrm>
            <a:off x="5638680" y="4648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1.28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447920" y="6094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nematics Equations that Make Sen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62120" y="1447920"/>
            <a:ext cx="754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   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 / change in  t                SI unit: 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352680" y="2057400"/>
            <a:ext cx="4648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 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 =  d / 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62120" y="26668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veloc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∆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                           SI unit: 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276720" y="327672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80880" y="4419720"/>
            <a:ext cx="8077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acceler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∆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                  SI unit:  m/s/s =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200400" y="495288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276720" y="3809880"/>
            <a:ext cx="190476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276720" y="5486400"/>
            <a:ext cx="190476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609480" y="609588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if the time intervals are very small we call these quantitie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stan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Split Tim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1397160"/>
          <a:ext cx="7620120" cy="1803240"/>
        </p:xfrm>
        <a:graphic>
          <a:graphicData uri="http://schemas.openxmlformats.org/drawingml/2006/table">
            <a:tbl>
              <a:tblPr/>
              <a:tblGrid>
                <a:gridCol w="2438640"/>
                <a:gridCol w="1066680"/>
                <a:gridCol w="990720"/>
                <a:gridCol w="1066680"/>
                <a:gridCol w="990720"/>
                <a:gridCol w="106668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 (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lit Time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Velocity (m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53"/>
          <p:cNvSpPr/>
          <p:nvPr/>
        </p:nvSpPr>
        <p:spPr>
          <a:xfrm>
            <a:off x="2895480" y="2666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4"/>
          <p:cNvSpPr/>
          <p:nvPr/>
        </p:nvSpPr>
        <p:spPr>
          <a:xfrm>
            <a:off x="4038480" y="2666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5"/>
          <p:cNvSpPr/>
          <p:nvPr/>
        </p:nvSpPr>
        <p:spPr>
          <a:xfrm>
            <a:off x="502920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6"/>
          <p:cNvSpPr/>
          <p:nvPr/>
        </p:nvSpPr>
        <p:spPr>
          <a:xfrm>
            <a:off x="617220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7086600" y="2666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8"/>
          <p:cNvSpPr/>
          <p:nvPr/>
        </p:nvSpPr>
        <p:spPr>
          <a:xfrm>
            <a:off x="304920" y="34290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average velocity for each distance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304920" y="3962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average velocity of the object over the time reco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1"/>
          <p:cNvSpPr/>
          <p:nvPr/>
        </p:nvSpPr>
        <p:spPr>
          <a:xfrm>
            <a:off x="304920" y="5105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average acceleration over the time reco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2"/>
          <p:cNvSpPr/>
          <p:nvPr/>
        </p:nvSpPr>
        <p:spPr>
          <a:xfrm>
            <a:off x="380880" y="4419720"/>
            <a:ext cx="221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3"/>
          <p:cNvSpPr/>
          <p:nvPr/>
        </p:nvSpPr>
        <p:spPr>
          <a:xfrm>
            <a:off x="2438280" y="4495680"/>
            <a:ext cx="2819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4"/>
          <p:cNvSpPr/>
          <p:nvPr/>
        </p:nvSpPr>
        <p:spPr>
          <a:xfrm>
            <a:off x="2511360" y="4400640"/>
            <a:ext cx="24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25m - 0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5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"/>
          <p:cNvSpPr/>
          <p:nvPr/>
        </p:nvSpPr>
        <p:spPr>
          <a:xfrm>
            <a:off x="5104800" y="441972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.7 m 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6"/>
          <p:cNvSpPr/>
          <p:nvPr/>
        </p:nvSpPr>
        <p:spPr>
          <a:xfrm>
            <a:off x="457200" y="556272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7"/>
          <p:cNvSpPr/>
          <p:nvPr/>
        </p:nvSpPr>
        <p:spPr>
          <a:xfrm>
            <a:off x="2355480" y="5562720"/>
            <a:ext cx="364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1.25 m/s - 3.1m/s)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5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8"/>
          <p:cNvSpPr/>
          <p:nvPr/>
        </p:nvSpPr>
        <p:spPr>
          <a:xfrm>
            <a:off x="6099120" y="556272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0.13 m 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9"/>
          <p:cNvSpPr/>
          <p:nvPr/>
        </p:nvSpPr>
        <p:spPr>
          <a:xfrm>
            <a:off x="762120" y="60199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e a is negative becaus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v is negative!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0" presetSubtype="1416922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85800" y="1371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easurements are made relative to a frame of reference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85800" y="19810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ting at your desk right now you don’t seem to be moving but you are infact revolving at 30 km/s (67,000 mi/h) around the su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85800" y="2895480"/>
            <a:ext cx="769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 also has a rotational speed about its axis. People on earth experience different tangential speeds depending on their latitude. The space shuttle at Kennedy Space Center is already traveling at 410 m/s (917 mi/h) before it even gets off the ground. A geosynchronous satellite that is in a stationary orbit over the earth is traveling at over 3080 m/s (6890 mi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85800" y="5029200"/>
            <a:ext cx="769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moving south at 5 km/h on a train which itself is moving south at 80 km/h will be moving at 85 km/h relative to the earth. If the person had been moving north on the train their velocity would have been 75 km/h relative to the earth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447920" y="4572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ing Kinematics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371600" y="13716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219320" y="1066680"/>
            <a:ext cx="7086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 coordinate system – Define which directions are positive and neg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your know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show unknowns with a question ma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the kinematic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will allow you to solve for one variable. All the others in your expression should be known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rr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f necessa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umbers and units into your physical expr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equation for your unknown and include the correct uni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our answ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the magnitude of your answer make sen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the units come out righ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you use another expression to check your answ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595800" y="903240"/>
            <a:ext cx="7366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 1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Run by a Jo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r does a jogger run in 1.5 hours (5400 s) if 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peed is 2.22 m/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7432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371600" y="2971800"/>
            <a:ext cx="662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5400s  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22 m/s     d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447920" y="365760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371600" y="441972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……     d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343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(2.22 m/s)(5400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371600" y="5257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12000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295280" y="5867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:  Units come out right (m) when multi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365040" y="649440"/>
            <a:ext cx="81694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mple 2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ld’s Fastest Jet-Engine 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y Green in the ca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rustS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t a world record of 341.1 m/s in 1997.  To establish such a record, the driver makes two runs through the course, one in each direction,to nullify wind effects.  From the data, determine the averagevelocity for each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afg003"/>
          <p:cNvPicPr/>
          <p:nvPr/>
        </p:nvPicPr>
        <p:blipFill>
          <a:blip r:embed="rId1"/>
          <a:stretch/>
        </p:blipFill>
        <p:spPr>
          <a:xfrm>
            <a:off x="5257800" y="3276720"/>
            <a:ext cx="2860560" cy="3276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304920" y="3200400"/>
            <a:ext cx="45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4.740 s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+1609m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80880" y="3657600"/>
            <a:ext cx="1676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057400" y="3657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+1609m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(4.740 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0880" y="4191120"/>
            <a:ext cx="2438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+ 339.5 m/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04920" y="4952880"/>
            <a:ext cx="45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4.695 s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-1609m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80880" y="5410080"/>
            <a:ext cx="1676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057400" y="5410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-1609m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(4.695 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80880" y="5943600"/>
            <a:ext cx="2438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- 342.7 m/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9" descr="afg004"/>
          <p:cNvPicPr/>
          <p:nvPr/>
        </p:nvPicPr>
        <p:blipFill>
          <a:blip r:embed="rId1"/>
          <a:stretch/>
        </p:blipFill>
        <p:spPr>
          <a:xfrm>
            <a:off x="1143000" y="1905120"/>
            <a:ext cx="6172200" cy="1558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533520" y="4572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mple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leration and Increasing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average acceleration of th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09480" y="380988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km/h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60 km/h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s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9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762120" y="4495680"/>
            <a:ext cx="32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762120" y="5181480"/>
            <a:ext cx="563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+260 km/h – 0 km/h) / (29s – 0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762120" y="5867280"/>
            <a:ext cx="32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+ 9.0 km/h 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20:47:00Z</dcterms:created>
  <dc:creator>Instructional Software</dc:creator>
  <dc:description/>
  <dc:language>en-US</dc:language>
  <cp:lastModifiedBy>Quincy Jackson</cp:lastModifiedBy>
  <dcterms:modified xsi:type="dcterms:W3CDTF">2016-08-30T21:14:45Z</dcterms:modified>
  <cp:revision>40</cp:revision>
  <dc:subject/>
  <dc:title>PowerPoint Presentation</dc:title>
</cp:coreProperties>
</file>